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7F7F-9663-46FE-821C-FD77A0499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4BE6-9515-4E10-B66C-A2ABF9EF3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9D9B-0987-4918-A45C-EFAC84B26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struction.greenriver.edu/kmarr/Biology%20211/Lecture%20Notes/Cellular%20Respiration%20Webpage/Respiration%20Web%20N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420D-771F-4766-B559-9F22AD82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-level - direct transfer of phosphate to 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ve - formation of ATP using energy from series of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BAE0-E79D-4D6C-B7E5-FE2F95F91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.miami.edu/~cmallery/150/makeatp/SLP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6878-5596-44A4-9FFB-FA67F0145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parknotes.com/biology/cellrespiration/oxidativephosphorylation/section3.r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408D-7BBD-4D5F-9F52-27894ED4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icro.magnet.fsu.edu/cells/mitochondria/mitochond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8692-7F61-4991-8FC5-A0CEE89DC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 - bacteria that cause botulism, tetanus, protist Trichonym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 - yeast, E. coli bacteria that live in our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D113-86C0-49A7-B118-7D33F6FC6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ssdbio.weebly.com/phtoresp1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3ED1-0E39-4095-A9D5-E70941299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actfictionfancy.wordpress.com/2010/01/05/photosynthe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565C-D053-41E9-9C64-E20417F12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E05B-EBEF-4844-856A-A3793C45D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struction.greenriver.edu/kmarr/Biology%20211/Lecture%20Notes/Cellular%20Respiration%20Webpage/Respiration%20Web%20N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2B26-D914-4428-8A6B-BC9A38A6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04B-C2DB-4BCF-8141-7B21D7DC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932-BA8F-481A-9045-12C30C7C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CB1-5DAE-48BF-82AA-69F2234D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2B5-225D-43E2-A5D2-0A83B401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99C-194F-4045-A8DC-B8957EA4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4ED-E712-4661-A47E-D2949FE2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617-CD33-418D-AFDC-ED435ADD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F4C-4C9A-4E57-ACD9-C1DCC1A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7A2-A5BB-47CC-8987-CAEE94EB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697-97F9-434E-B06A-F57F2E50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294-6269-402A-9C22-53408AF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217-DCBC-4839-877C-163B7A18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EEF7-B119-4E6C-A6D6-0E6266DE3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&amp;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lectron Transpo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first 3 stages are oxi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a large amount of ATP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resp_summary"/>
          <p:cNvPicPr/>
          <p:nvPr/>
        </p:nvPicPr>
        <p:blipFill>
          <a:blip r:embed="rId1"/>
          <a:stretch/>
        </p:blipFill>
        <p:spPr>
          <a:xfrm>
            <a:off x="774720" y="609480"/>
            <a:ext cx="75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can be produc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SLP"/>
          <p:cNvPicPr/>
          <p:nvPr/>
        </p:nvPicPr>
        <p:blipFill>
          <a:blip r:embed="rId1"/>
          <a:stretch/>
        </p:blipFill>
        <p:spPr>
          <a:xfrm>
            <a:off x="2806560" y="1981080"/>
            <a:ext cx="353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oxphos"/>
          <p:cNvPicPr/>
          <p:nvPr/>
        </p:nvPicPr>
        <p:blipFill>
          <a:blip r:embed="rId1"/>
          <a:stretch/>
        </p:blipFill>
        <p:spPr>
          <a:xfrm>
            <a:off x="2376360" y="1981080"/>
            <a:ext cx="438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hous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mitochondriafigure1"/>
          <p:cNvPicPr/>
          <p:nvPr/>
        </p:nvPicPr>
        <p:blipFill>
          <a:blip r:embed="rId1"/>
          <a:stretch/>
        </p:blipFill>
        <p:spPr>
          <a:xfrm>
            <a:off x="2619360" y="1981080"/>
            <a:ext cx="39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there is no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rganisms can extract energy from food without using oxygen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lower amount of free energy release in anaerobic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what obligate aerob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naerob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tive anaerob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31" descr="5726226_orig"/>
          <p:cNvPicPr/>
          <p:nvPr/>
        </p:nvPicPr>
        <p:blipFill>
          <a:blip r:embed="rId1"/>
          <a:stretch/>
        </p:blipFill>
        <p:spPr>
          <a:xfrm>
            <a:off x="2357280" y="304920"/>
            <a:ext cx="4353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chemicalformula2s"/>
          <p:cNvPicPr/>
          <p:nvPr/>
        </p:nvPicPr>
        <p:blipFill>
          <a:blip r:embed="rId1"/>
          <a:stretch/>
        </p:blipFill>
        <p:spPr>
          <a:xfrm>
            <a:off x="304920" y="1855800"/>
            <a:ext cx="84582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s energy from food in the presenc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used to synthesize ATP from ADP and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ukaryote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resp_summary"/>
          <p:cNvPicPr/>
          <p:nvPr/>
        </p:nvPicPr>
        <p:blipFill>
          <a:blip r:embed="rId1"/>
          <a:stretch/>
        </p:blipFill>
        <p:spPr>
          <a:xfrm>
            <a:off x="774720" y="609480"/>
            <a:ext cx="75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s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 &amp;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break down one molecule of glucose into two molecules of pyru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TP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is transported into the mitochondria and is oxidized, forming acety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-CoA enters a cycle and is completely oxidized t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,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1:56:34Z</dcterms:created>
  <dc:creator>rubina khan</dc:creator>
  <dc:description/>
  <dc:language>en-US</dc:language>
  <cp:lastModifiedBy>rubina khan</cp:lastModifiedBy>
  <dcterms:modified xsi:type="dcterms:W3CDTF">2017-05-30T18:36:06Z</dcterms:modified>
  <cp:revision>64</cp:revision>
  <dc:subject/>
  <dc:title>Cellular Respiration</dc:title>
</cp:coreProperties>
</file>